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DCC-DBC8-4D36-BA6B-CB99B92F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0C7-15FC-48DB-A490-16B09D85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C60-50EB-4149-AA95-573B699A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BA6-6A0B-42BE-9C8C-506BCAF3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778-B9B2-4F1E-8DE1-E8511037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1F8-E882-4EF4-80E0-C26B5699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9CE-6254-476D-9D0D-432FEB3D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46D-14BE-4C6B-AE9A-31941F81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317-27B3-4BC2-81F7-E54C793F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1D2-D41D-498F-B1CF-945DFFF3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55B-ECE1-48CD-AC28-13273C6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412-150E-415F-95FE-44F9126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g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4B30-06BE-4B26-B9C4-27839CA4A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1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Christopher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DBQ recap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ing talk… show the cours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intro pictures and fact/opin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ntroversy… read/anno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of four (A’s and B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est evidence, statements/rec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ef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562720" y="4440240"/>
            <a:ext cx="3581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2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Christopher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ing talk… show the cours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DBQ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intro pictures and fact/opin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ntroversy… read/anno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of four (A’s and B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est evidence, statements/rec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ef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3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Christopher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missing work &amp;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ntroversy… read/annotate, whole class,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3000: Drake’s Secret (Columbus when 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of four (A’s and B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est evidence, statements/rec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ef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7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Christopher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missing work &amp; grades, classes, voc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ntroversy… best evidence/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3000: Three Worlds Meet: A 400-Year-Old Mystery S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n Exchang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clip of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Select courses for next school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S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factors for European dominance of n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Columbus controver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ez/Pizarro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ns, Germs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45160" y="44956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factors for European dominance of n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Achieve3000: Age of Revolution: Was This Blackbeard's Sh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ns, Germs and Steel (13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factors for European dominance of n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ns, Germs and Steel (17.5min/gu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 Kahoot and coll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on triangl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Quiz (Tu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4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key aspect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G, G, &amp; S… missing work, voc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: </a:t>
            </a:r>
            <a:r>
              <a:rPr b="0" lang="en-US" sz="3200" spc="-1" strike="noStrike">
                <a:solidFill>
                  <a:srgbClr val="fdeada"/>
                </a:solidFill>
                <a:latin typeface="Calibri"/>
              </a:rPr>
              <a:t>England's Terribl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 Kah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on triangl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key aspect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vocab &amp; quiz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 documents: 3 groups, then present b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M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December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earning Target: 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Explain characteristics of medieval trad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T/CE, assessm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Vocabulary: define/answer/illustration for guessing game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no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mulation tomorrow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18120" y="4419720"/>
            <a:ext cx="4025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14300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key aspect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Slavery documents: last group then rec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stad cl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3000: </a:t>
            </a:r>
            <a:r>
              <a:rPr b="0" lang="en-US" sz="3200" spc="-1" strike="noStrike">
                <a:solidFill>
                  <a:srgbClr val="403152"/>
                </a:solidFill>
                <a:latin typeface="Calibri"/>
              </a:rPr>
              <a:t>Remembering the Amist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M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86400" y="4387680"/>
            <a:ext cx="3657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Select courses for next school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things/current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S scheduling and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/Intro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valuate student samples of CER skills (claims, evidence, reaso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 rec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 Workshop/evaluating student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urn tests/work-time/cor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F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motives for European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orrections/vocab/missing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European exploration (notes/discu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es 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(tomorr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factors motivating European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correction proble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Voc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Notes (3G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es CER (Bal. Inst. Grou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est evidence/arguing a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4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who explored key areas of the globe and w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correction proble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CER’s and graded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xploration Notes (Te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competition (Who/wh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motives for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CER’s and graded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xploration Notes (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(Te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is the real Columb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ine work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Support a claim using evidence and rea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time lines and C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Common 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7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the Columbian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lect/discuss 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us fact/opi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ez &amp; Pizar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 December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9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earning Target: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tudents will be able to identify the advantages and disadvantages of trade centers located along the Silk Road and Afric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hat’s happen’, Games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Directions/setup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simul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Discussion with teams/whole group recap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3276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8 February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the Columbian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S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activity (which are new/old wor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n exchange notes/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Guns, germs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reasons for European success against Native Ame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green sh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/negative effects of C.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Guns, germs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reen sheets (2/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reasons for European success against Native Amer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green sh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G, G &amp; 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the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slave trade DB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green sh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Guns, Germs &amp;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 slave trade DB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groups for main idea and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Test (F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me small groups on Slave trade (discu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stad clip and storyte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study gu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Test (F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 March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28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study gu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s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ulary (3/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Identify motives for European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things/current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ur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over Renaissance CER’s (samples)…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es for European Exploration notes (Corne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Identify motives for European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/finish 3G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CER (model #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Identify motives for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Bell r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 recap/fi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trengths/weakness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dmiral Zheng Video w/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Vocab &amp; work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due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Books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1 December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9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earning Target: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alyze the effects of medieval tra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hat’s happen’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ecap game: war, diseas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No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video (3-2-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3276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2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purpose and impact of Zheng He’s voy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video cl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reading guide &amp;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Vocab &amp; work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due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how Columbus changed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CER rec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Zheng (True &amp; Fal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olumbus pictures/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Video (3 impacts he h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Vocab due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how Columbus changed the New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 &amp; Qui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 work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New World… pre-Colum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Map due 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8 Februar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how the Spanish treated the 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m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 Notes (Cortez/Pizarr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On the organi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Other explo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410080" y="4336920"/>
            <a:ext cx="3733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why conquistadors were so successful against the 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s, poli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vorite meal…C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n Exchang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egin “Guns, Germs, &amp; Steel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why conquistadors were so successful against the 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s, poli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Guns, Germs,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work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Group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638680" y="4491000"/>
            <a:ext cx="35053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Guns, Germs, and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n Exchange notes/Middle Pa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lavery documents/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Test Thur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334120" y="4284720"/>
            <a:ext cx="38098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stages of the African Slave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ontinue  Slavery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Partner to answer the questions on the back/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view questions/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Test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334120" y="4284720"/>
            <a:ext cx="38098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 March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impact of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eview Q &amp;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334120" y="4284720"/>
            <a:ext cx="38098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4 December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9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Learning Target: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alyze the effects of medieval tra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hat’s happen’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ecap game: war, diseas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No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8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rade video (3-2-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3276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Explain the motives for voyages of expl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test compl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3000: Did Weather Change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ation motives (Notes on 3G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715000" y="4543560"/>
            <a:ext cx="3429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accomplishments of Zheng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test compl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xploration motives (Notes on 3G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He reading,  RAP, answer w/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He Video w/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715000" y="4543560"/>
            <a:ext cx="3429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February 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T: Analyze the accomplishments of Zheng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/CE, test return/cor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Exploration notes (technolo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eng He in America slide &amp;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graph written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orldhistorycbad.wikispaces.com/file/view/age_of.jpg/257703376/age_of.jpg"/>
          <p:cNvPicPr/>
          <p:nvPr/>
        </p:nvPicPr>
        <p:blipFill>
          <a:blip r:embed="rId1"/>
          <a:stretch/>
        </p:blipFill>
        <p:spPr>
          <a:xfrm>
            <a:off x="5562720" y="4440240"/>
            <a:ext cx="3581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3:38:02Z</dcterms:created>
  <dc:creator>Owner</dc:creator>
  <dc:description/>
  <dc:language>en-US</dc:language>
  <cp:lastModifiedBy>Kuenzi</cp:lastModifiedBy>
  <dcterms:modified xsi:type="dcterms:W3CDTF">2015-12-14T16:13:37Z</dcterms:modified>
  <cp:revision>69</cp:revision>
  <dc:subject/>
  <dc:title>Expl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9781033</vt:lpwstr>
  </property>
</Properties>
</file>